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FABC9-A360-417F-A517-6005ED462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CFA89-240D-47E7-A5A8-BB7983ECA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CED9C-95FF-4997-ACF0-22757D5E5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8982A-DFFC-4AF5-AD97-52F1B0B9A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B28E7-2947-43CE-949D-9B5D632A8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CB3F9-054E-4937-9FB3-D96082496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B5F72-1A54-455E-8143-39A6C0ADC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7F163-CCF8-4742-A0D0-1D91DFFAD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F59C9-6B8B-401C-BEE1-3E215FC61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28808-ACCD-4014-8522-14A796185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0D6B6-3D98-4AFF-833E-10A4DE62F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A7C20-606F-4ADE-87D6-C020A24C6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BB2C4-BDF2-432E-ABD0-6955A0AAA7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http://wpcontent.answers.com/wikipedia/commons/thumb/0/0c/RobertFuddBewusstsein17Jh.png/180px-RobertFuddBewusstsein17Jh.png"/>
          <p:cNvPicPr/>
          <p:nvPr/>
        </p:nvPicPr>
        <p:blipFill>
          <a:blip r:embed="rId1"/>
          <a:stretch/>
        </p:blipFill>
        <p:spPr>
          <a:xfrm>
            <a:off x="1981080" y="117360"/>
            <a:ext cx="4648320" cy="6740640"/>
          </a:xfrm>
          <a:prstGeom prst="rect">
            <a:avLst/>
          </a:prstGeom>
          <a:ln w="0">
            <a:noFill/>
          </a:ln>
        </p:spPr>
      </p:pic>
      <p:sp>
        <p:nvSpPr>
          <p:cNvPr id="42" name="TextBox 2"/>
          <p:cNvSpPr/>
          <p:nvPr/>
        </p:nvSpPr>
        <p:spPr>
          <a:xfrm>
            <a:off x="5638680" y="411480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ciousness isn’t measureable/observ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http://www.yu.edu/uploadedImages/STERN/ACADEMIC__LIFE/ACADEMIC_ADVISEMENT/girls%20studying.jpg"/>
          <p:cNvPicPr/>
          <p:nvPr/>
        </p:nvPicPr>
        <p:blipFill>
          <a:blip r:embed="rId1"/>
          <a:stretch/>
        </p:blipFill>
        <p:spPr>
          <a:xfrm>
            <a:off x="0" y="380880"/>
            <a:ext cx="940608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http://www.waterfootprint.org/images/gallery/original/apple.jpg"/>
          <p:cNvPicPr/>
          <p:nvPr/>
        </p:nvPicPr>
        <p:blipFill>
          <a:blip r:embed="rId1"/>
          <a:stretch/>
        </p:blipFill>
        <p:spPr>
          <a:xfrm>
            <a:off x="838080" y="-152280"/>
            <a:ext cx="731520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how about a little kiss"/>
          <p:cNvPicPr/>
          <p:nvPr/>
        </p:nvPicPr>
        <p:blipFill>
          <a:blip r:embed="rId1"/>
          <a:stretch/>
        </p:blipFill>
        <p:spPr>
          <a:xfrm>
            <a:off x="0" y="380880"/>
            <a:ext cx="909972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Freud's couch"/>
          <p:cNvPicPr/>
          <p:nvPr/>
        </p:nvPicPr>
        <p:blipFill>
          <a:blip r:embed="rId1"/>
          <a:stretch/>
        </p:blipFill>
        <p:spPr>
          <a:xfrm>
            <a:off x="0" y="-92160"/>
            <a:ext cx="9144000" cy="695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http://www.psywww.com/intropsych/ch04_senses/04vase.jpg"/>
          <p:cNvPicPr/>
          <p:nvPr/>
        </p:nvPicPr>
        <p:blipFill>
          <a:blip r:embed="rId1"/>
          <a:stretch/>
        </p:blipFill>
        <p:spPr>
          <a:xfrm>
            <a:off x="990720" y="-304920"/>
            <a:ext cx="7315200" cy="742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1066680" y="-380880"/>
            <a:ext cx="6934320" cy="854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8769240" cy="708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5:44:47Z</dcterms:created>
  <dc:creator>BHS</dc:creator>
  <dc:description/>
  <dc:language>en-US</dc:language>
  <cp:lastModifiedBy>BHS</cp:lastModifiedBy>
  <dcterms:modified xsi:type="dcterms:W3CDTF">2009-08-20T18:19:56Z</dcterms:modified>
  <cp:revision>4</cp:revision>
  <dc:subject/>
  <dc:title>Slide 1</dc:title>
</cp:coreProperties>
</file>